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8132-5DC8-41B5-9FCF-3610CFF98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906C-19D8-4C5F-940F-84927203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8BDE-0190-418C-B189-83BD1048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E749-FBAB-435B-915C-993289C1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E5EC-526E-4A02-B96F-D03ECCA1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99F3-0693-4632-84F3-90E0055C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EBBF-B916-4E44-A30A-C7233D1F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FC1C-16D0-4755-8D7F-F3A7859C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0F57-878E-4043-AEE3-A11521A8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5116-E992-4260-802A-392117F0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B7E8-9382-4F8C-8635-63874F4A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0AD8-1522-4260-8AAA-1D63F3BF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E710-7FA8-4EC0-B6A0-A8808FB77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416720" cy="4857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128880"/>
            <a:ext cx="381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lephant"/>
              </a:rPr>
              <a:t>МИНИСТЕРСТВО ЗДРАВООХРАНЕНИЯ РЕСПУБЛИКИ ТАТАРСТ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66960"/>
            <a:ext cx="442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lephant"/>
              </a:rPr>
              <a:t>УПРАВЛЕНИЕ ПО ФАРМАЦИИ МИНИСТЕРСТВА ЗДРАВООХРАНЕНИЯ РЕСПУБЛИКИ ТАТАРСТ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843560"/>
            <a:ext cx="885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спубликанское совещание руководителей фармацевтических организаций Республики Татарстан по итогам деятельности фармацевтической службы за 2007 год и задачам на 2008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71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211640" y="0"/>
            <a:ext cx="792000" cy="69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0" y="271296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1800" y="3230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76720" y="61657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.minzdrav.tatar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6072120"/>
          <a:ext cx="9144000" cy="8636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33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анское совещание Управления по фармации Министерства здравоохран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и Татарста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6093000"/>
            <a:ext cx="826920" cy="765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ъем фармацевтического рынка Республики Татарстан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в 2003 – 2007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26920" y="1268280"/>
          <a:ext cx="6842160" cy="428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1268280"/>
                    <a:ext cx="6842160" cy="42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0" y="6072120"/>
          <a:ext cx="9144000" cy="8636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33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анское совещание Управления по фармации Министерства здравоохран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и Татарста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6093000"/>
            <a:ext cx="826920" cy="76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395280" y="476280"/>
          <a:ext cx="8424720" cy="5445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476280"/>
                    <a:ext cx="842472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0" y="6072120"/>
          <a:ext cx="9144000" cy="8636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33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анское совещание Управления по фармации Министерства здравоохран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и Татарста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6093000"/>
            <a:ext cx="826920" cy="76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179280" y="476280"/>
          <a:ext cx="5761080" cy="3168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476280"/>
                    <a:ext cx="576108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4356000" y="3068640"/>
          <a:ext cx="4591080" cy="29527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56000" y="3068640"/>
                    <a:ext cx="459108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468360" y="3645000"/>
            <a:ext cx="2519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казатели соотношения между минимальным и максимальным уровнем потребления лекарственных средств по районам республики – 1:5 (2006 год – 1: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6072120"/>
          <a:ext cx="9144000" cy="8636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33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анское совещание Управления по фармации Министерства здравоохран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и Татарста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6093000"/>
            <a:ext cx="826920" cy="76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179280" y="333360"/>
          <a:ext cx="4969080" cy="2881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333360"/>
                    <a:ext cx="4969080" cy="28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780000" y="3068640"/>
          <a:ext cx="5217840" cy="28954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80000" y="3068640"/>
                    <a:ext cx="52178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0" y="6072120"/>
          <a:ext cx="9144000" cy="8636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33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анское совещание Управления по фармации Министерства здравоохран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и Татарста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6093000"/>
            <a:ext cx="826920" cy="76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324000" y="333360"/>
          <a:ext cx="8351640" cy="5545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333360"/>
                    <a:ext cx="835164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6072120"/>
          <a:ext cx="9144000" cy="8636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33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анское совещание Управления по фармации Министерства здравоохран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и Татарста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6093000"/>
            <a:ext cx="826920" cy="765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115920"/>
            <a:ext cx="864216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Объемы поставок лекарственных средств в рамках федеральных целевых программ и национального приоритетного проекта «Здоровье» в 2007 году (млн. рублей)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в Республике Татарстан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1447920"/>
            <a:ext cx="190512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cc"/>
              </a:gs>
              <a:gs pos="50000">
                <a:srgbClr val="ffff99"/>
              </a:gs>
              <a:gs pos="100000">
                <a:srgbClr val="ff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048,9 млн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773360"/>
            <a:ext cx="2735280" cy="107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рофилактика, выявление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лечение бо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ВИЧ – инфекци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0,2 млн. руб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56360" y="1773360"/>
            <a:ext cx="273672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755e">
                  <a:alpha val="55294"/>
                </a:srgbClr>
              </a:gs>
              <a:gs pos="100000">
                <a:srgbClr val="99ffcc">
                  <a:alpha val="7215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«Вакцинопрофилакти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7,518 млн.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4221000"/>
            <a:ext cx="2736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рофилактика, диагности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и леч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туберкулеза и СПИД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,353 млн. руб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95640" y="5157720"/>
            <a:ext cx="187164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66">
                  <a:alpha val="44313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«Туберкулез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,108 млн.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43640" y="4149720"/>
            <a:ext cx="24494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«Сахарный диабе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443 млн.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859280" y="2205000"/>
            <a:ext cx="0" cy="64296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300720" y="2852280"/>
            <a:ext cx="381240" cy="30492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2916360" y="2924280"/>
            <a:ext cx="380880" cy="30456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132000" y="4149720"/>
            <a:ext cx="503280" cy="50328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59280" y="4365720"/>
            <a:ext cx="0" cy="792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12000" y="4149720"/>
            <a:ext cx="431640" cy="43164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32000" y="2743200"/>
            <a:ext cx="3421080" cy="16225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бщий объем постав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лекарственных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 788,522 млн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0" y="6072120"/>
          <a:ext cx="9144000" cy="8636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33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анское совещание Управления по фармации Министерства здравоохран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и Татарста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6093000"/>
            <a:ext cx="826920" cy="76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372960" y="333360"/>
          <a:ext cx="8375760" cy="5472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2960" y="333360"/>
                    <a:ext cx="837576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 rot="5400000">
            <a:off x="3204000" y="-243720"/>
            <a:ext cx="360360" cy="3816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43280" y="16286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 986,5 млн.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4032000" y="-350640"/>
            <a:ext cx="360360" cy="5472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42560 h 5472000"/>
              <a:gd name="textAreaBottom" fmla="*/ 5329440 h 54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08360" y="23493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 986,5 млн.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2807640" y="1520640"/>
            <a:ext cx="432000" cy="3095640"/>
          </a:xfrm>
          <a:custGeom>
            <a:avLst/>
            <a:gdLst>
              <a:gd name="textAreaLeft" fmla="*/ 276120 w 432000"/>
              <a:gd name="textAreaRight" fmla="*/ 432360 w 43200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2997360"/>
            <a:ext cx="136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 135,5 млн.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0" y="6072120"/>
          <a:ext cx="9144000" cy="8636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33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анское совещание Управления по фармации Министерства здравоохран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и Татарста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6093000"/>
            <a:ext cx="826920" cy="765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68360" y="40464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ъемы отпуска лекарственных средств за 2005 – 2007 гг. по программе ДЛ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Республике Татарст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24000" y="907920"/>
          <a:ext cx="8569080" cy="523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907920"/>
                    <a:ext cx="8569080" cy="52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6072120"/>
          <a:ext cx="9144000" cy="8636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33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анское совещание Управления по фармации Министерства здравоохран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и Татарста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6093000"/>
            <a:ext cx="826920" cy="765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ализ отпуска лекарственных средств в рамках программы ДЛО за 2006-2007 годы в Республике Татарстан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 стоимостным показател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95280" y="1268280"/>
          <a:ext cx="8229600" cy="4181400"/>
        </p:xfrm>
        <a:graphic>
          <a:graphicData uri="http://schemas.openxmlformats.org/drawingml/2006/table">
            <a:tbl>
              <a:tblPr/>
              <a:tblGrid>
                <a:gridCol w="677880"/>
                <a:gridCol w="2370240"/>
                <a:gridCol w="2489040"/>
                <a:gridCol w="2692440"/>
              </a:tblGrid>
              <a:tr h="604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№</a:t>
                      </a:r>
                      <a:r>
                        <a:rPr b="1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Наименование Л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Объем отпущенных ЛС за 2006 год (в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Объем отпущенных ЛС за 2007 год (в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прек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елкей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тафер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ли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гас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исполепт Кон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ерцепт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ом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римидек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0" y="6072120"/>
          <a:ext cx="9144000" cy="8636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33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анское совещание Управления по фармации Министерства здравоохран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и Татарста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6093000"/>
            <a:ext cx="826920" cy="76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468360" y="333360"/>
          <a:ext cx="8283600" cy="5462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333360"/>
                    <a:ext cx="8283600" cy="54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4360" y="115200"/>
            <a:ext cx="33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МИНИСТЕРСТВО ЗДРАВООХРАНЕНИЯ РЕСПУБЛИКИ ТАТАРСТ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32360" y="115200"/>
            <a:ext cx="39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УПРАВЛЕНИЕ ПО ФАРМАЦИИ МИНИСТЕРСТВА ЗДРАВООХРАНЕНИЯ РЕСПУБЛИКИ ТАТАРСТ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6072120"/>
          <a:ext cx="9144000" cy="8636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33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анское совещание Управления по фармации Министерства здравоохран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и Татарста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6093000"/>
            <a:ext cx="826920" cy="765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26920" y="230796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Итоги деятельности фармацевтической службы Республики Татарстан за 2007 год и задачи на 2008 год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87280" y="4724280"/>
            <a:ext cx="69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Заместитель министра здравоохранения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еспублики Татарстан, к.ф.н.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Ф.Ф. Ярка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067280" y="0"/>
            <a:ext cx="79200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468360" y="1341360"/>
          <a:ext cx="8229600" cy="4679640"/>
        </p:xfrm>
        <a:graphic>
          <a:graphicData uri="http://schemas.openxmlformats.org/drawingml/2006/table">
            <a:tbl>
              <a:tblPr/>
              <a:tblGrid>
                <a:gridCol w="2441520"/>
                <a:gridCol w="1227240"/>
                <a:gridCol w="2193840"/>
                <a:gridCol w="2367000"/>
              </a:tblGrid>
              <a:tr h="121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 полученных лекарственных средств одним гражданин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Более 100 тыс. руб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97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Более 500 тыс. руб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96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Более 1 млн. руб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611280" y="404640"/>
            <a:ext cx="792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189000"/>
            <a:ext cx="8713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личество граждан Республики Татарстан, получивших льготные лекарственные средства на сумму более 100 тыс.рубле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616572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о данным ФОМС 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0" y="6072120"/>
          <a:ext cx="9144000" cy="8636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33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анское совещание Управления по фармации Министерства здравоохран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и Татарста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6093000"/>
            <a:ext cx="826920" cy="76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324000" y="115920"/>
          <a:ext cx="8664480" cy="5762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5920"/>
                    <a:ext cx="8664480" cy="57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6012000" y="551664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о данным ФОМС 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0" y="6072120"/>
          <a:ext cx="9144000" cy="8636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33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анское совещание Управления по фармации Министерства здравоохран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и Татарста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6093000"/>
            <a:ext cx="826920" cy="765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5280" y="6915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новные задачи  для ГУП «Таттехмедфарм» по оптимизации расходов на 200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1816920"/>
            <a:ext cx="878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cc0000"/>
              </a:buClr>
              <a:buSzPct val="130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сное информационное взаимодействие аптечных учреждений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ицинскими учреждениями, в перспективе  предусматриваетс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аимодействие по передаче информации по остаткам товара в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птечных учреждениях  в режим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SzPct val="130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я отпуска лекарственных средств в рамках заявок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ицинских учреж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SzPct val="130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и совместной работы с медицинскими учреждениями по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можной аналоговой замене лекарственных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SzPct val="130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еративное управление товарными запас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SzPct val="130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ие аптечных пунктов ГУП «Таттехмедфарм» в медицинских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реждениях и оказание лекарственной помощи сельскому насе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6072120"/>
          <a:ext cx="9144000" cy="8636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33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анское совещание Управления по фармации Министерства здравоохран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и Татарста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6093000"/>
            <a:ext cx="826920" cy="76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341280" y="474840"/>
          <a:ext cx="8442360" cy="5437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280" y="474840"/>
                    <a:ext cx="844236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0" y="6072120"/>
          <a:ext cx="9144000" cy="8636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33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анское совещание Управления по фармации Министерства здравоохран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и Татарста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6093000"/>
            <a:ext cx="826920" cy="76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" name=""/>
          <p:cNvGraphicFramePr/>
          <p:nvPr/>
        </p:nvGraphicFramePr>
        <p:xfrm>
          <a:off x="393840" y="260280"/>
          <a:ext cx="7899120" cy="5388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3840" y="260280"/>
                    <a:ext cx="7899120" cy="53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0" y="6072120"/>
          <a:ext cx="9144000" cy="8636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33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анское совещание Управления по фармации Министерства здравоохран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и Татарста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6093000"/>
            <a:ext cx="826920" cy="765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79280" y="23220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блемные вопросы обеспеченности фармацевтическими кадрами Республики Татарс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1189080"/>
            <a:ext cx="82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SzPct val="135000"/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сутствие здоровой конкуренции между специалис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35000"/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ведение должности «консультант торгового зала», которая мож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ыть замещена лицом без фармацевтического образ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35000"/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величение производственной нагрузки на специалис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35000"/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уществление руководства провизором-организатором одной аптек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другой аптеке на правах совмест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03240" y="3141000"/>
            <a:ext cx="31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зникла необходим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5640" y="3642120"/>
            <a:ext cx="6913440" cy="20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cc0000"/>
              </a:buClr>
              <a:buSzPct val="135000"/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смотра системы государственного регулир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ия аптечных учреж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SzPct val="135000"/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тимизации системы охраны труда фармспециалис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SzPct val="135000"/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ения реестра фармацевтических кадр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SzPct val="135000"/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ения системы последипломного образ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SzPct val="135000"/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едения накопительной системы знани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SzPct val="135000"/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0" y="6072120"/>
          <a:ext cx="9144000" cy="8636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33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анское совещание Управления по фармации Министерства здравоохран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и Татарста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6093000"/>
            <a:ext cx="826920" cy="765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 rot="10800000">
            <a:off x="0" y="619920"/>
            <a:ext cx="9144000" cy="4969080"/>
          </a:xfrm>
          <a:prstGeom prst="verticalScroll">
            <a:avLst>
              <a:gd name="adj" fmla="val 16634"/>
            </a:avLst>
          </a:prstGeom>
          <a:gradFill rotWithShape="0">
            <a:gsLst>
              <a:gs pos="0">
                <a:srgbClr val="ffff99"/>
              </a:gs>
              <a:gs pos="50000">
                <a:srgbClr val="ffffcc"/>
              </a:gs>
              <a:gs pos="100000">
                <a:srgbClr val="ffff99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«Аптекарь…повинен быть искусен, честе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совестен, благоразумен, во всякое врем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присутствен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исполняющий знание своё всеобще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благу соответственно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Петр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0" y="6072120"/>
          <a:ext cx="9144000" cy="8636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33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анское совещание Управления по фармации Министерства здравоохран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и Татарста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6093000"/>
            <a:ext cx="826920" cy="765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654200" y="2564640"/>
            <a:ext cx="572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128880"/>
            <a:ext cx="381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lephant"/>
              </a:rPr>
              <a:t>МИНИСТЕРСТВО ЗДРАВООХРАНЕНИЯ РЕСПУБЛИКИ ТАТАРСТ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211640" y="0"/>
            <a:ext cx="792000" cy="6922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716360" y="66960"/>
            <a:ext cx="442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lephant"/>
              </a:rPr>
              <a:t>УПРАВЛЕНИЕ ПО ФАРМАЦИИ МИНИСТЕРСТВА ЗДРАВООХРАНЕНИЯ РЕСПУБЛИКИ ТАТАРСТ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6072120"/>
          <a:ext cx="9144000" cy="8636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33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анское совещание Управления по фармации Министерства здравоохран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и Татарста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6093000"/>
            <a:ext cx="826920" cy="765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ъем российского фармацевтического рынка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2003 – 2007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95280" y="1197000"/>
          <a:ext cx="7588080" cy="474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197000"/>
                    <a:ext cx="758808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3886200" y="5516640"/>
            <a:ext cx="52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 данным центра маркетинговых исследований «Фармэксперт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0" y="6072120"/>
          <a:ext cx="9144000" cy="8636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33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анское совещание Управления по фармации Министерства здравоохран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и Татарста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6093000"/>
            <a:ext cx="826920" cy="765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68360" y="404640"/>
            <a:ext cx="822960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ля импортных и отечественных лекарственных препаратов на российском фармацевтическом рынке в 2007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240" y="1592280"/>
            <a:ext cx="308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660066"/>
                </a:solidFill>
                <a:uFillTx/>
                <a:latin typeface="Book Antiqua"/>
              </a:rPr>
              <a:t>В стоимостном выраж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2320" y="1592280"/>
            <a:ext cx="302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660066"/>
                </a:solidFill>
                <a:uFillTx/>
                <a:latin typeface="Book Antiqua"/>
              </a:rPr>
              <a:t>В натуральном выраж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04720" y="2152800"/>
          <a:ext cx="3943440" cy="341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4720" y="2152800"/>
                    <a:ext cx="3943440" cy="34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788000" y="2103480"/>
          <a:ext cx="3892320" cy="3197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2103480"/>
                    <a:ext cx="3892320" cy="31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5111640" y="558972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 данным центров маркетинговых исследов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0" y="6072120"/>
          <a:ext cx="9144000" cy="8636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33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анское совещание Управления по фармации Министерства здравоохран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и Татарста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6093000"/>
            <a:ext cx="826920" cy="765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043600" y="5661000"/>
            <a:ext cx="41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 данным центров маркетинговых исследов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ведущих российских производителей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екарственных сре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971640" y="1268280"/>
          <a:ext cx="7416360" cy="4375440"/>
        </p:xfrm>
        <a:graphic>
          <a:graphicData uri="http://schemas.openxmlformats.org/drawingml/2006/table">
            <a:tbl>
              <a:tblPr/>
              <a:tblGrid>
                <a:gridCol w="912240"/>
                <a:gridCol w="65041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99"/>
                        </a:gs>
                        <a:gs pos="100000">
                          <a:srgbClr val="b2fed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извод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99"/>
                        </a:gs>
                        <a:gs pos="100000">
                          <a:srgbClr val="b2fed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35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РМСТАНДА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ИЖФАРМ/ШТАДА АРЦНАЙМИТТЕЛЬ 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ЕЧЕСТВЕННЫЕ ЛЕКАР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КРИХИН/ПОЛЬФА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ЕРОФАР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ЛТАЙВИТАМ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СХИМФАРМПРЕПАРАТЫ ИМ. Н.А.СЕМАШ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ОЛЕН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ЕРТЕК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БОЛМЕ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0" y="6072120"/>
          <a:ext cx="9144000" cy="8636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33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анское совещание Управления по фармации Министерства здравоохран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и Татарста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6093000"/>
            <a:ext cx="826920" cy="765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68360" y="40464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йтинг 10 ведущих компаний в секторе ДЛО в 2007 году в Российской Федер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8360" y="1052640"/>
          <a:ext cx="8229600" cy="4300560"/>
        </p:xfrm>
        <a:graphic>
          <a:graphicData uri="http://schemas.openxmlformats.org/drawingml/2006/table">
            <a:tbl>
              <a:tblPr/>
              <a:tblGrid>
                <a:gridCol w="547560"/>
                <a:gridCol w="3029040"/>
                <a:gridCol w="2281320"/>
                <a:gridCol w="2371680"/>
              </a:tblGrid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Arial"/>
                          <a:ea typeface="Arial"/>
                        </a:rPr>
                        <a:t>Наименование компа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Arial"/>
                          <a:ea typeface="Arial"/>
                        </a:rPr>
                        <a:t>Доля от объема ДЛО,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Arial"/>
                          <a:ea typeface="Arial"/>
                        </a:rPr>
                        <a:t>Прирост продаж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НОВАРТ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12,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7,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ЯНССЕН-СИЛА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10,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- 26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Р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9,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- 26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НОВО НОРДИ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6,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- 17,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АСТРАЗЕНЕ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5,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- 21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Т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4,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- 33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БАЙЕР ШЕРИНГ ФА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3,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- 35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ЭЛИ ЛИЛ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3,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- 37,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САНОФИ-АВЕНТ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3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- 71,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ШЕРИНГ-ПЛА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2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- 15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5043600" y="5661000"/>
            <a:ext cx="41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 данным центров маркетинговых исследов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6072120"/>
          <a:ext cx="9144000" cy="8636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33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анское совещание Управления по фармации Министерства здравоохран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и Татарста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6093000"/>
            <a:ext cx="826920" cy="765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йтинг компаний на российском розничном рынке (коммерческий сектор +ДЛО) в 2007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68360" y="1268280"/>
          <a:ext cx="8229600" cy="4199040"/>
        </p:xfrm>
        <a:graphic>
          <a:graphicData uri="http://schemas.openxmlformats.org/drawingml/2006/table">
            <a:tbl>
              <a:tblPr/>
              <a:tblGrid>
                <a:gridCol w="826920"/>
                <a:gridCol w="3029040"/>
                <a:gridCol w="2376720"/>
                <a:gridCol w="199692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00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Наименование компа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00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Доля от объема розничного рынка,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00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Прирост продаж в USD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00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НОВАРТ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4,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15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САНОФИ-АВЕНТ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4,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-13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ФАРМСТАНДА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3,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22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БЕРЛИН-ХЕМИ/МЕНАРИ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3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-2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БАЙЕР ШЕРИНГ ФА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2,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3,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СЕРВЬ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2,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-18,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САНДО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2,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35,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ГЕДЕОН РИХТ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2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0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НИКОМЕ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2,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20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ЯНССЕН-СИЛА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2,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-13,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9280" y="189000"/>
            <a:ext cx="8713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параты-лидеры коммерческого сектора фармацевтического рынка России в 2007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95280" y="836640"/>
          <a:ext cx="8209080" cy="5950080"/>
        </p:xfrm>
        <a:graphic>
          <a:graphicData uri="http://schemas.openxmlformats.org/drawingml/2006/table">
            <a:tbl>
              <a:tblPr/>
              <a:tblGrid>
                <a:gridCol w="665280"/>
                <a:gridCol w="2782800"/>
                <a:gridCol w="2246400"/>
                <a:gridCol w="251460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орговая мар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рпор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ля в объеме продаж (руб.)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рбидо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рмстанда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аг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файз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ктовег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икоме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тру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Юнифарм ИН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ссенци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нофи-Авент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раф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варт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нек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ндо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нталг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рмстанда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зим фор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рлин-Хеми/Менари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сеник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на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-ш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нофи-Авент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едукт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рвь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ксидо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рмасофт ПК ОО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нафер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териа Мед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ептр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бботт Лаборатори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винт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едеон Рихт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рпин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рмстанда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дрек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лдрон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риндек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0" y="6072120"/>
          <a:ext cx="9144000" cy="8636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33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анское совещание Управления по фармации Министерства здравоохран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и Татарста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6093000"/>
            <a:ext cx="826920" cy="765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Регионы лидеры по объему фармацевтического рын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700360" y="907920"/>
          <a:ext cx="4248000" cy="4525920"/>
        </p:xfrm>
        <a:graphic>
          <a:graphicData uri="http://schemas.openxmlformats.org/drawingml/2006/table">
            <a:tbl>
              <a:tblPr/>
              <a:tblGrid>
                <a:gridCol w="4248000"/>
              </a:tblGrid>
              <a:tr h="452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г. Москва</a:t>
                      </a:r>
                      <a:r>
                        <a:rPr b="1" i="1" lang="en-US" sz="2000" spc="-1" strike="noStrike" u="sng">
                          <a:solidFill>
                            <a:srgbClr val="00cc00"/>
                          </a:solidFill>
                          <a:uFillTx/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Московск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г. Санкт-Петербур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 Свердловск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 Тюменск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 Краснодарский 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 Ростовск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  <a:ea typeface="Arial"/>
                        </a:rPr>
                        <a:t>8. Республика Татарст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 Республика Башкортост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 Самарск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3886200" y="5661000"/>
            <a:ext cx="52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 данным центра маркетинговых исследований «Фармэксперт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08:32:58Z</dcterms:created>
  <dc:creator>User</dc:creator>
  <dc:description/>
  <dc:language>en-US</dc:language>
  <cp:lastModifiedBy>User</cp:lastModifiedBy>
  <dcterms:modified xsi:type="dcterms:W3CDTF">2008-03-18T18:14:35Z</dcterms:modified>
  <cp:revision>74</cp:revision>
  <dc:subject/>
  <dc:title>Слайд 1</dc:title>
</cp:coreProperties>
</file>